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38248-28AB-48FD-A736-44CF9CE7B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8BBA5-04E6-423F-BDEC-FF87319BB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252F3-C4D0-485B-B7B7-824AD40D0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3E2BD-6830-4581-B8A1-192DBB94E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6EEE9-C070-40A3-A24C-8251FD4C0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B03F1-D04A-4C2B-AAC1-96A7A54CC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4DE1D-87FF-4E62-8D02-8E6E64BA0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4AF94-84A2-4D27-8752-883E3A0AA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B906F-58D4-49D9-8BF1-EB6012355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77AD4-E364-4CB7-9DF1-B118F38D2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513C6-9952-4381-946A-397EA5879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145D9-96C2-4DB3-B9BD-42301DE30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73B26-0913-41AD-AE89-CD4276F749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dgar Allan Poe (1809-1849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6" descr="File:Edgar Allan Poe 2 - edit2.jpg"/>
          <p:cNvPicPr/>
          <p:nvPr/>
        </p:nvPicPr>
        <p:blipFill>
          <a:blip r:embed="rId1"/>
          <a:stretch/>
        </p:blipFill>
        <p:spPr>
          <a:xfrm>
            <a:off x="2771640" y="1413000"/>
            <a:ext cx="3530880" cy="53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Catacomb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7" descr="Catacombs_S"/>
          <p:cNvPicPr/>
          <p:nvPr/>
        </p:nvPicPr>
        <p:blipFill>
          <a:blip r:embed="rId1"/>
          <a:stretch/>
        </p:blipFill>
        <p:spPr>
          <a:xfrm>
            <a:off x="4572000" y="1916280"/>
            <a:ext cx="4572000" cy="40636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0" descr="Paris-Catacombs-path-through-the-bones"/>
          <p:cNvPicPr/>
          <p:nvPr/>
        </p:nvPicPr>
        <p:blipFill>
          <a:blip r:embed="rId2"/>
          <a:stretch/>
        </p:blipFill>
        <p:spPr>
          <a:xfrm>
            <a:off x="0" y="1916280"/>
            <a:ext cx="4537080" cy="40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Bait for Revenge – Amontillado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492 litr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6" descr="amontillado"/>
          <p:cNvPicPr/>
          <p:nvPr/>
        </p:nvPicPr>
        <p:blipFill>
          <a:blip r:embed="rId1"/>
          <a:stretch/>
        </p:blipFill>
        <p:spPr>
          <a:xfrm>
            <a:off x="2217600" y="1557360"/>
            <a:ext cx="462780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00244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Love of His Life – Virginia Clemm(1822-1847)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"the loss of his wife was a sad blow to him. He did not seem to care, after she was gone, whether he lived an hour, a day, a week or a year; she was his all.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6" descr="File:VirginiaPoe.jpg"/>
          <p:cNvPicPr/>
          <p:nvPr/>
        </p:nvPicPr>
        <p:blipFill>
          <a:blip r:embed="rId1"/>
          <a:stretch/>
        </p:blipFill>
        <p:spPr>
          <a:xfrm>
            <a:off x="420840" y="1700280"/>
            <a:ext cx="4330440" cy="51577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8" descr="File:PoeMarriage.JPG"/>
          <p:cNvPicPr/>
          <p:nvPr/>
        </p:nvPicPr>
        <p:blipFill>
          <a:blip r:embed="rId2"/>
          <a:stretch/>
        </p:blipFill>
        <p:spPr>
          <a:xfrm>
            <a:off x="4716360" y="1700280"/>
            <a:ext cx="4038840" cy="51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 Literary Geniu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of the earliest known American writers of the short s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well-known author to try to earn a living through writing al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idered to be the inventor of the detective-fiction sty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idered by some to be the creator of the horror, gothic, crime sty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American writer to be more popular in Europe than the U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 Mystery Writer’s Death a Myster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8000"/>
          </a:bodyPr>
          <a:p>
            <a:pPr marL="233280" indent="-233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ed in Baltimore at the age of 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uses explored and rumored: alcoholism, brain congestion, cholera, drugs, heart disease, rabies, suicide, tuberculosis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nd on the streets of Baltimore delirious, "in great distress, and... in need of immediate assistance“(Oct.3,1849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depraved, drunk, drug-addled madman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"Edgar Allan Poe is dead. He died in Baltimore the day before yesterday. This announcement will startle many, but few will be grieved by it”(Oct.9,184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3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3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32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2332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2332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2332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2332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2332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2332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2332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2332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2332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2332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2332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2332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2332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2332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2332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2332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2332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2332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2332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2332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2332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2332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2332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2332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Black Cat &amp; The Tell-Tale Heart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84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The_Black_Cat.jpg black and red image by Bite_666"/>
          <p:cNvPicPr/>
          <p:nvPr/>
        </p:nvPicPr>
        <p:blipFill>
          <a:blip r:embed="rId1"/>
          <a:stretch/>
        </p:blipFill>
        <p:spPr>
          <a:xfrm>
            <a:off x="0" y="1341360"/>
            <a:ext cx="4932360" cy="36655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8" descr="fca55"/>
          <p:cNvPicPr/>
          <p:nvPr/>
        </p:nvPicPr>
        <p:blipFill>
          <a:blip r:embed="rId2"/>
          <a:stretch/>
        </p:blipFill>
        <p:spPr>
          <a:xfrm>
            <a:off x="4643280" y="3284640"/>
            <a:ext cx="4500720" cy="334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Cask of Amontillad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published in November 18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rror short s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classic Poe work that centers around the victim being buried alive (immuremen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ld from the killer’s point of 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story does not involve a police investig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ntresor – the narrator/kill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6" descr="cask"/>
          <p:cNvPicPr/>
          <p:nvPr/>
        </p:nvPicPr>
        <p:blipFill>
          <a:blip r:embed="rId1"/>
          <a:stretch/>
        </p:blipFill>
        <p:spPr>
          <a:xfrm>
            <a:off x="611280" y="1803240"/>
            <a:ext cx="3816360" cy="3581640"/>
          </a:xfrm>
          <a:prstGeom prst="rect">
            <a:avLst/>
          </a:prstGeom>
          <a:ln w="0">
            <a:noFill/>
          </a:ln>
        </p:spPr>
      </p:pic>
      <p:sp>
        <p:nvSpPr>
          <p:cNvPr id="57" name="Text Box 7"/>
          <p:cNvSpPr/>
          <p:nvPr/>
        </p:nvSpPr>
        <p:spPr>
          <a:xfrm>
            <a:off x="5292720" y="1844640"/>
            <a:ext cx="3311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8"/>
          <p:cNvSpPr/>
          <p:nvPr/>
        </p:nvSpPr>
        <p:spPr>
          <a:xfrm>
            <a:off x="5364000" y="1773360"/>
            <a:ext cx="3168720" cy="458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s family motto- “Nemo me impune lacessit”( no one can attack me without being punish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s Motive - __________. (Theme or main ide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tunato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6" descr="220px-William_Merritt_Chase_Keying_up"/>
          <p:cNvPicPr/>
          <p:nvPr/>
        </p:nvPicPr>
        <p:blipFill>
          <a:blip r:embed="rId1"/>
          <a:stretch/>
        </p:blipFill>
        <p:spPr>
          <a:xfrm>
            <a:off x="2843280" y="1628640"/>
            <a:ext cx="3038400" cy="5013360"/>
          </a:xfrm>
          <a:prstGeom prst="rect">
            <a:avLst/>
          </a:prstGeom>
          <a:ln w="0">
            <a:noFill/>
          </a:ln>
        </p:spPr>
      </p:pic>
      <p:sp>
        <p:nvSpPr>
          <p:cNvPr id="61" name="Text Box 7"/>
          <p:cNvSpPr/>
          <p:nvPr/>
        </p:nvSpPr>
        <p:spPr>
          <a:xfrm>
            <a:off x="2627280" y="1258920"/>
            <a:ext cx="374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Victi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8"/>
          <p:cNvSpPr/>
          <p:nvPr/>
        </p:nvSpPr>
        <p:spPr>
          <a:xfrm>
            <a:off x="6300720" y="1700280"/>
            <a:ext cx="22320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 so fortunate and dressed as a jester at the Carnival, he is made a fool by the killer. This is very ______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Palazz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6" descr="File:Palazzo.senatorio.rome.arp.jpg"/>
          <p:cNvPicPr/>
          <p:nvPr/>
        </p:nvPicPr>
        <p:blipFill>
          <a:blip r:embed="rId1"/>
          <a:stretch/>
        </p:blipFill>
        <p:spPr>
          <a:xfrm>
            <a:off x="755640" y="1557360"/>
            <a:ext cx="7620120" cy="512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7T23:06:28Z</dcterms:created>
  <dc:creator>User</dc:creator>
  <dc:description/>
  <dc:language>en-US</dc:language>
  <cp:lastModifiedBy>user</cp:lastModifiedBy>
  <dcterms:modified xsi:type="dcterms:W3CDTF">2013-10-07T11:12:33Z</dcterms:modified>
  <cp:revision>4</cp:revision>
  <dc:subject/>
  <dc:title>Edgar Allan Poe (1809-1849)</dc:title>
</cp:coreProperties>
</file>